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1660-127E-4164-B540-B396895E5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E228-1BB3-47FB-A321-C5CEDABE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2D3F-98C3-440C-9036-6393F8D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21DB-EDB2-490F-B9B2-6B94ED8DF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B1D40-19F3-4681-B746-E3400AD0D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D79E8-A7EE-4073-95ED-F5ABD07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96A49-0FF3-4CDB-8B6E-E9FD9C3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43EC1-7F41-4A88-B60A-9548D5A0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86E3D-AF97-4722-8E22-10BF732E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47CA2-BAC4-45F1-90ED-642A4E23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F158-B4E6-4F94-A44C-C536FFF0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8EC9-4E84-48E2-A136-CEC580C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722B4-7864-4D45-A9CC-E052E6E1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2CBE-F321-4F61-A4B2-0445BE32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95D9-D69D-46E9-9036-21B7623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49E7D-F59C-411E-B6CD-FE19AF9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7716-E9D4-483D-B492-3627641DB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C97D-BC22-4C09-BC18-2F3DB21CC9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296-448B-474A-9AD4-7612473F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770-FC9A-4581-AEE6-8B20199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1CE-9E9C-4CCA-BD3C-CA3D0E2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41FF-6B2B-46C7-94C5-348962C8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6296-E394-4589-964E-6E494F1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0A0F-CED6-4778-B652-6FCCA639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F760-3DAB-450F-A9F2-213DADC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D83C-9087-4F17-9588-45096FE1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9D06-5712-495D-B726-56B9B71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2EBD-CD23-4953-AE1F-C556559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5CC-4474-45B4-BFDB-640660E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ABF-0FFD-48E5-9ECC-3C2739FEBD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DC10B-32B9-40AB-A39A-83BB2F3C1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844A3-2ABC-478E-8507-9464F4A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2A8C1-0426-4471-B6DA-91A2221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F28C-1C59-44BF-B7E6-89B4313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62D91-0FE2-4752-9371-14BCCEC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9167E-0B04-4305-8301-2153B05E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245B2-61F0-4ED8-9245-E070E2C0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E30F3-AAFF-4C0E-9F32-26323823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B0486-B837-434A-8F3C-EE519C2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2D320-3FE5-46AD-9E89-7B6AE8A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ADA22-3DA2-4754-9640-AE84C13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8DF9A-034E-4E70-83A6-B33D5793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BCC29-4869-4B2A-A873-378F50365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A5BF-CD3B-4633-BCA3-19173BC5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ED35-A4B3-4C68-864E-DDE5FFCE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9596-2E68-40DF-8301-7F16BD95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85BE-F3E1-4785-A26D-6391CF3A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EF16-146C-4AA7-B519-124043A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50BF2-7599-4705-A868-81E5B51FAE45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042146E-C97A-4EF5-865C-AAE4AB52D679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453F9C2-0F6C-4559-8F08-9F1E4F9A0A5C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208220-A886-45C2-A65D-F804206D8B2C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633240" y="920880"/>
            <a:ext cx="8077320" cy="1487520"/>
            <a:chOff x="633240" y="920880"/>
            <a:chExt cx="8077320" cy="14875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633240" y="920880"/>
              <a:ext cx="8077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3240" y="920880"/>
              <a:ext cx="807732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00040" y="2571840"/>
            <a:ext cx="80726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Protocollo d’Intes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ssessorato Sanità Regione Campania - Procura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ogetto Formazione Personale Vigilanza ASL Campa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D.ssa Lucia Marino Direttore SIML  Dipartimento Prevenzione ASL NA</a:t>
            </a: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 Cen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48436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1424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857680"/>
            <a:ext cx="214344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0" y="2643120"/>
            <a:ext cx="23576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Giustizia</a:t>
            </a:r>
            <a:r>
              <a:rPr b="0" lang="en-GB" sz="18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H="1">
            <a:off x="2785320" y="1785600"/>
            <a:ext cx="85788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>
            <a:off x="5429160" y="1856880"/>
            <a:ext cx="929520" cy="715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57200" y="1935000"/>
            <a:ext cx="82296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inizio a un percorso nuovo condiviso mettendo in comu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esperi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form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57120" y="7142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Solo attraverso la conoscenza del territorio e la competenza degli operatori si può attuare una vera strategia della sicurezza e programmare azioni di sinergia incisive ed efficaci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abbattimento 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’incidenza  degli  infort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e  malattie 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la realizzazione  di un sistema  di sicurezza organizzata che garantisca pienamente la tutela della salute e della sicurezza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42960" y="2000160"/>
            <a:ext cx="7586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5400" spc="-1" strike="noStrike">
                <a:solidFill>
                  <a:srgbClr val="0070c0"/>
                </a:solidFill>
                <a:latin typeface="Edwardian Script ITC"/>
              </a:rPr>
              <a:t>Grazie  per 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Convegno Reg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20 e 21 maggio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 Campania – Assessorato alla San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CUREZZA E’ SINERGIA ISTITUZIONA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Nell’ambito del convegno è stato sottoscritto un Protocollo di Intesa condiviso dalla Procura Generale della Repubblica di Napoli e dall’Assessorato alla Sanità della Regione Camp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Sinergie Istitu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a collaborazione istituzionale, sancita dal Protocollo di Intesa assolverà a varie funzioni e tra l’altro è stato messo a punto e pianificata un’attività formativa rivolta agli operatori delle ASL impegnati nelle attività di Prevenzione e Vigilanza degli ambienti di lavoro di tutta la Regione Campa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vigil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decreto 81/2008 e le successive modifiche introdotte dal D. Lgs. 106/09 confermano che la vigilanza sull’applicazione della legislazione in materia di salute e sicurezza dei luoghi di lavoro è a carico della Azienda Sanitaria Locale competente per territorio, pertanto è necessario che al personale dei servizi di vigilanza delle ASL venga assicurata una opportunità di confronto sia istituzionale sia tra tutti gli operatori regional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truttura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corso che tutt’ora si sta svolgendo è rivolto a un totale di 250 operatori e suddiviso in 4 moduli di 50 persone ciascuno per un totale di 150 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norma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mpianti-cantieri-appal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chi chimici, biologici e fis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ttività di vigilanza e la qualifica di U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li operatori del sistema sanitario nazionale della Regione Campania dipendenti dei servizi PSAL e SIML dei Dipartimenti di Prevenzione delle ASL che svolgono attività di vigilanza in materia di tutela di salute e sicurezza dei lavoratori con funzioni di polizia giudizi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Me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im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gegn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P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’iniziativa di questo protocollo di intesa è innovativa in Italia e punta ad ottenere una sinergia tra istituzioni deputate ad arginare il fenom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da lavoro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( infortuni e malattie professional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contras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preven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Questa collaborazione istituzionale assolve a varie funzio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arantire al personale delle ASL un corretto aggior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sicurare un’uniformità di orientamenti su tutto il territori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Potenziare l’azione dei singoli attori attraverso un coordina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Valorizzare la sinergia tra prevenzione e re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 realizza così un Coordinamento t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-ASL  e Proc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e trasforma l’esperienza collaborativa già esistente, ma limitatamente alla repressione dei reati in tema di tutela di salute e sicurezza dei luoghi di lavoro, in una collaborazione stabile attraverso un </a:t>
            </a:r>
            <a:r>
              <a:rPr b="1" lang="en-GB" sz="2600" spc="-1" strike="noStrike">
                <a:solidFill>
                  <a:srgbClr val="0b5395"/>
                </a:solidFill>
                <a:latin typeface="Constantia"/>
              </a:rPr>
              <a:t>travaso di esperienze e una osmosi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ra le istituzioni prepos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giuri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operativi della vigil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6043</cp:lastModifiedBy>
  <cp:revision>0</cp:revision>
  <dc:subject/>
  <dc:title>Osservatorio Napoli Città Sicura 21 e 22 gennaio 2010</dc:title>
</cp:coreProperties>
</file>